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7DFFB-86AF-4882-9A3E-21F2EEC024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4EDDE-BA10-440B-A53B-8FC15D1873F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11560-8D6E-44DF-A2E2-ABCE733B58D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: Cortney McG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lisa Mon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DCE80-EC2C-4094-99A0-A235213DD8E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: Cortney McG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lisa Mon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1DF0E-F46D-413B-B2CB-DF29159F73C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37BB8-EB27-443B-A180-AD37CA3E0EA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4C5B8-4DD1-4381-8079-0246547889D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72F17-0B5D-4879-AD14-095F116D058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4F064-1124-4B6B-8118-0F17A4F33B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B1A9-A6C5-41A0-A454-4E4CD01CA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FEFD-0174-41AE-8389-957D6E973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7B2E-8E36-4858-BD70-1AFE0BD3F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6BED-AA25-4B1D-86D7-70306E58F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3AE78-4834-400B-87E6-E74F6EBA0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CADD9-B7F3-429B-84AA-366440879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9A8C4-52AF-4701-8CDF-7DA193879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8D1DF-6B25-4DBC-AB87-7DE9B96DA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040E2-EA7F-4C51-8C05-E7676B058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478E8-E1D8-4152-957A-52CC51445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805D6-689F-4008-B34A-CE7C4C26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0C08-BCDB-4BE3-9F34-E442FA5B4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D1DE4-89EA-4E25-A7F8-17122BC7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5E6F9-4550-4B85-A548-3181A2FF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08000-94FC-470E-B4B7-B8F6C4E22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51323-F38E-44BC-B42F-68D99D5FA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D43D1-918B-49B0-B1F2-44453CAD8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D45F-9008-45CE-884A-EA59A5E11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1B3E-0669-4782-A6A3-AE5ED223B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3DAE-2A48-4BF1-83B7-CAE71A1C7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DD12-C284-4175-B4AA-3C979CD86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6444-7F14-4CA0-9C10-03343FE3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721C-29C1-4EC4-83F6-61A21D84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7981-34F1-465C-BC4B-6DC356CC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327CE-D77B-436C-8AF6-821C8B4AF2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4923-6A69-4AB6-AC03-58CAEF1D21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Times New Roman"/>
              </a:rPr>
              <a:t>Conjugating</a:t>
            </a:r>
            <a:br>
              <a:rPr sz="10600"/>
            </a:br>
            <a:r>
              <a:rPr b="0" lang="en-US" sz="10600" spc="-1" strike="noStrike">
                <a:solidFill>
                  <a:srgbClr val="ffffff"/>
                </a:solidFill>
                <a:latin typeface="Times New Roman"/>
              </a:rPr>
              <a:t>Verbs </a:t>
            </a:r>
            <a:br>
              <a:rPr sz="10600"/>
            </a:b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in the </a:t>
            </a:r>
            <a:br>
              <a:rPr sz="8800"/>
            </a:b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Conditional Tense</a:t>
            </a:r>
            <a:endParaRPr b="0" lang="en-US" sz="88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520" y="-30492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The Conditional Tense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0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45720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457200" indent="-457200">
              <a:lnSpc>
                <a:spcPct val="9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conditional tense is used to indicate </a:t>
            </a: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would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in English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. The conditional tense is also used to express </a:t>
            </a: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possibility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probability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in the </a:t>
            </a: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past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3. The conditional tense is sometimes used to </a:t>
            </a: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show politeness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4. The conditional tense is also used with </a:t>
            </a: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if clauses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.  ch.9,11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onjugating in the Conditional </a:t>
            </a:r>
            <a:r>
              <a:rPr b="0" lang="en-US" sz="10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457200" y="1676520"/>
            <a:ext cx="8458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stem is the entire infinitiv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e...</a:t>
            </a: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habla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. Add the regular conditional endings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ff"/>
                </a:solidFill>
                <a:latin typeface="Times New Roman"/>
              </a:rPr>
              <a:t>AR, ER IR Endings</a:t>
            </a:r>
            <a:endParaRPr b="0" lang="en-US" sz="6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447920" y="1447920"/>
            <a:ext cx="69339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To describe something that 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4200" spc="-1" strike="noStrike">
                <a:solidFill>
                  <a:srgbClr val="ffcc00"/>
                </a:solidFill>
                <a:latin typeface="Times New Roman"/>
              </a:rPr>
              <a:t>would</a:t>
            </a: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 happen.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54"/>
          <p:cNvSpPr/>
          <p:nvPr/>
        </p:nvSpPr>
        <p:spPr>
          <a:xfrm>
            <a:off x="2803680" y="3622680"/>
            <a:ext cx="397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55"/>
          <p:cNvSpPr/>
          <p:nvPr/>
        </p:nvSpPr>
        <p:spPr>
          <a:xfrm>
            <a:off x="2209680" y="3657600"/>
            <a:ext cx="579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ía</a:t>
            </a:r>
            <a:r>
              <a:rPr b="1" lang="en-US" sz="4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	</a:t>
            </a:r>
            <a:r>
              <a:rPr b="1" lang="en-US" sz="4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	</a:t>
            </a:r>
            <a:r>
              <a:rPr b="1" lang="en-US" sz="4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	</a:t>
            </a:r>
            <a:r>
              <a:rPr b="1" lang="en-US" sz="4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íamos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59"/>
          <p:cNvSpPr/>
          <p:nvPr/>
        </p:nvSpPr>
        <p:spPr>
          <a:xfrm>
            <a:off x="1981080" y="4495680"/>
            <a:ext cx="563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ías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60"/>
          <p:cNvSpPr/>
          <p:nvPr/>
        </p:nvSpPr>
        <p:spPr>
          <a:xfrm>
            <a:off x="1889280" y="5334120"/>
            <a:ext cx="6111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  </a:t>
            </a:r>
            <a:r>
              <a:rPr b="1" lang="en-US" sz="4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ía</a:t>
            </a:r>
            <a:r>
              <a:rPr b="1" lang="en-US" sz="4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	</a:t>
            </a:r>
            <a:r>
              <a:rPr b="1" lang="en-US" sz="4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	</a:t>
            </a:r>
            <a:r>
              <a:rPr b="1" lang="en-US" sz="4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	</a:t>
            </a:r>
            <a:r>
              <a:rPr b="1" lang="en-US" sz="4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  ía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Times New Roman"/>
              </a:rPr>
              <a:t>Practice Conjugating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523880" y="25146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1143000" y="2209680"/>
            <a:ext cx="8001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Conjugate the following regular verbs 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in the future tense: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cc00"/>
                </a:solidFill>
                <a:latin typeface="Times New Roman"/>
              </a:rPr>
              <a:t>estudiar</a:t>
            </a:r>
            <a:r>
              <a:rPr b="0" lang="en-US" sz="38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ffcc00"/>
                </a:solidFill>
                <a:latin typeface="Times New Roman"/>
              </a:rPr>
              <a:t>hablar</a:t>
            </a:r>
            <a:r>
              <a:rPr b="0" lang="en-US" sz="38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ffcc00"/>
                </a:solidFill>
                <a:latin typeface="Times New Roman"/>
              </a:rPr>
              <a:t>sacar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cc00"/>
                </a:solidFill>
                <a:latin typeface="Times New Roman"/>
              </a:rPr>
              <a:t>comer</a:t>
            </a:r>
            <a:r>
              <a:rPr b="0" lang="en-US" sz="38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ffcc00"/>
                </a:solidFill>
                <a:latin typeface="Times New Roman"/>
              </a:rPr>
              <a:t>vivir</a:t>
            </a:r>
            <a:r>
              <a:rPr b="0" lang="en-US" sz="38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ffcc00"/>
                </a:solidFill>
                <a:latin typeface="Times New Roman"/>
              </a:rPr>
              <a:t>escribir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cc00"/>
                </a:solidFill>
                <a:latin typeface="Times New Roman"/>
              </a:rPr>
              <a:t>manejar</a:t>
            </a:r>
            <a:r>
              <a:rPr b="0" lang="en-US" sz="38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ffcc00"/>
                </a:solidFill>
                <a:latin typeface="Times New Roman"/>
              </a:rPr>
              <a:t>leer</a:t>
            </a:r>
            <a:r>
              <a:rPr b="0" lang="en-US" sz="38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ffcc00"/>
                </a:solidFill>
                <a:latin typeface="Times New Roman"/>
              </a:rPr>
              <a:t>repasar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1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ff"/>
                </a:solidFill>
                <a:latin typeface="Times New Roman"/>
              </a:rPr>
              <a:t>Irregular Verbs </a:t>
            </a:r>
            <a:endParaRPr b="0" lang="en-US" sz="6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447920" y="1219320"/>
            <a:ext cx="693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verbs have irregular stems but regular endings in the future tens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2803680" y="3622680"/>
            <a:ext cx="397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1066680" y="2666880"/>
            <a:ext cx="822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caber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br-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querer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uerr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decir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r-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saber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abr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haber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abr-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salir</a:t>
            </a: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aldr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hacer</a:t>
            </a: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ar-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tener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ndr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poder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dr-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valer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aldr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poner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ndr-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venir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endr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ff"/>
                </a:solidFill>
                <a:latin typeface="Times New Roman"/>
              </a:rPr>
              <a:t>Sentence Examples</a:t>
            </a:r>
            <a:endParaRPr b="0" lang="en-US" sz="6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1905120" y="236232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990720" y="1600200"/>
            <a:ext cx="8001000" cy="47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Hablar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ía con mi hermana.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</a:t>
            </a:r>
            <a:r>
              <a:rPr b="0" lang="en-US" sz="3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 would talk with my sister.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an bailaría el lunes.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</a:t>
            </a:r>
            <a:r>
              <a:rPr b="0" lang="en-US" sz="3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Juan would dance on Monday.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Podrían Uds. ayudarme?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</a:t>
            </a:r>
            <a:r>
              <a:rPr b="0" lang="en-US" sz="3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ould you all help me?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1584360" y="1870200"/>
            <a:ext cx="70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ff"/>
                </a:solidFill>
                <a:latin typeface="Times New Roman"/>
              </a:rPr>
              <a:t>Sentence Examples (Cont.)</a:t>
            </a:r>
            <a:endParaRPr b="0" lang="en-US" sz="6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1584360" y="2022480"/>
            <a:ext cx="214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1508040" y="2057400"/>
            <a:ext cx="656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1508040" y="2022480"/>
            <a:ext cx="6645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1143000" y="2590920"/>
            <a:ext cx="8001000" cy="40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Limpiarían la casa el martes si hay 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tiempo.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800" spc="-1" strike="noStrike">
                <a:solidFill>
                  <a:srgbClr val="ffcc00"/>
                </a:solidFill>
                <a:latin typeface="Times New Roman"/>
              </a:rPr>
              <a:t>They will clean the house on Tuesday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ffcc00"/>
                </a:solidFill>
                <a:latin typeface="Times New Roman"/>
              </a:rPr>
              <a:t>if there is time.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Cantaríamos en el gimnasio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</a:t>
            </a:r>
            <a:r>
              <a:rPr b="0" lang="en-US" sz="3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e would sing in the gym.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1T04:36:59Z</dcterms:created>
  <dc:creator>Socorro McGerty</dc:creator>
  <dc:description/>
  <dc:language>en-US</dc:language>
  <cp:lastModifiedBy>Maple Lake</cp:lastModifiedBy>
  <dcterms:modified xsi:type="dcterms:W3CDTF">2009-04-14T16:37:54Z</dcterms:modified>
  <cp:revision>30</cp:revision>
  <dc:subject/>
  <dc:title>Conjugating –AR Verbs in the Preterite Tense</dc:title>
</cp:coreProperties>
</file>